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60700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17A9-AB4F-4624-ACC6-A082B794C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0600" y="430236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D0F8-11BD-43B0-B4CC-D7EDE8EF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56276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CA38-AEA4-4108-911E-AF6DE8489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0268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99476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060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10268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99476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C0B9-52BE-4BF0-8860-0D499364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45A0-B3EA-4C37-93FF-E9DD58BD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CE5D-B66F-4255-8982-1D8F4BB3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2532-F919-4D9C-A2DC-7978433D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5E5E-14B0-4C11-8781-FAA675C9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0600" y="382320"/>
            <a:ext cx="263844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20C6-9387-41E9-BDA7-95AF637E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FD06-6FDB-4144-A359-E5E43053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6276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CF17-6593-41C1-ABAE-9895829C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AAF2-531A-403E-8574-AE2FBB7F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32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38088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3" marL="53496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4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5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6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0960" y="6671880"/>
            <a:ext cx="68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4480" y="6671880"/>
            <a:ext cx="1031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61800" y="6671880"/>
            <a:ext cx="6872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BDA6AB-C9B7-41DE-8E42-533A20F62184}" type="slidenum">
              <a:rPr b="0" lang="es-ES" sz="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think-cell data - do not delete" descr=""/>
          <p:cNvPicPr/>
          <p:nvPr/>
        </p:nvPicPr>
        <p:blipFill>
          <a:blip r:embed="rId2"/>
          <a:stretch/>
        </p:blipFill>
        <p:spPr>
          <a:xfrm>
            <a:off x="0" y="1440"/>
            <a:ext cx="360" cy="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hink-cell data - do not delete" descr=""/>
          <p:cNvPicPr/>
          <p:nvPr/>
        </p:nvPicPr>
        <p:blipFill>
          <a:blip r:embed="rId1"/>
          <a:stretch/>
        </p:blipFill>
        <p:spPr>
          <a:xfrm>
            <a:off x="-13768560" y="1440"/>
            <a:ext cx="1800" cy="18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"/>
          <p:cNvGrpSpPr/>
          <p:nvPr/>
        </p:nvGrpSpPr>
        <p:grpSpPr>
          <a:xfrm>
            <a:off x="738360" y="6605640"/>
            <a:ext cx="2438280" cy="226800"/>
            <a:chOff x="738360" y="6605640"/>
            <a:chExt cx="2438280" cy="226800"/>
          </a:xfrm>
        </p:grpSpPr>
        <p:pic>
          <p:nvPicPr>
            <p:cNvPr id="44" name="Picture 5" descr=""/>
            <p:cNvPicPr/>
            <p:nvPr/>
          </p:nvPicPr>
          <p:blipFill>
            <a:blip r:embed="rId2"/>
            <a:srcRect l="0" t="0" r="73827" b="0"/>
            <a:stretch/>
          </p:blipFill>
          <p:spPr>
            <a:xfrm>
              <a:off x="738360" y="6605640"/>
              <a:ext cx="76896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6" descr=""/>
            <p:cNvPicPr/>
            <p:nvPr/>
          </p:nvPicPr>
          <p:blipFill>
            <a:blip r:embed="rId3"/>
            <a:srcRect l="52317" t="0" r="18459" b="0"/>
            <a:stretch/>
          </p:blipFill>
          <p:spPr>
            <a:xfrm>
              <a:off x="2317680" y="6605640"/>
              <a:ext cx="85896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7" descr=""/>
            <p:cNvPicPr/>
            <p:nvPr/>
          </p:nvPicPr>
          <p:blipFill>
            <a:blip r:embed="rId4"/>
            <a:stretch/>
          </p:blipFill>
          <p:spPr>
            <a:xfrm>
              <a:off x="1613160" y="6611400"/>
              <a:ext cx="662760" cy="20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TextBox 3"/>
          <p:cNvSpPr/>
          <p:nvPr/>
        </p:nvSpPr>
        <p:spPr>
          <a:xfrm>
            <a:off x="-4680" y="6888240"/>
            <a:ext cx="32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Gill Sans MT"/>
                <a:ea typeface="Arial"/>
              </a:rPr>
              <a:t>Consejería</a:t>
            </a:r>
            <a:r>
              <a:rPr b="0" lang="es-ES" sz="400" spc="-1" strike="noStrike">
                <a:solidFill>
                  <a:srgbClr val="ffffff"/>
                </a:solidFill>
                <a:latin typeface="Gill Sans MT"/>
                <a:ea typeface="Arial"/>
              </a:rPr>
              <a:t> de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" spc="-1" strike="noStrike">
                <a:solidFill>
                  <a:srgbClr val="ffffff"/>
                </a:solidFill>
                <a:latin typeface="Gill Sans MT"/>
                <a:ea typeface="Arial"/>
              </a:rPr>
              <a:t>XXX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4" descr=""/>
          <p:cNvPicPr/>
          <p:nvPr/>
        </p:nvPicPr>
        <p:blipFill>
          <a:blip r:embed="rId5"/>
          <a:stretch/>
        </p:blipFill>
        <p:spPr>
          <a:xfrm>
            <a:off x="0" y="6888240"/>
            <a:ext cx="3060720" cy="31284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49320" y="687384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Gill Sans MT"/>
                <a:ea typeface="Arial"/>
              </a:rPr>
              <a:t>Consejería de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Gill Sans MT"/>
                <a:ea typeface="Arial"/>
              </a:rPr>
              <a:t>XXX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1-27T08:08:51Z</dcterms:created>
  <dc:creator>Calviño Gonzalez, Maria</dc:creator>
  <dc:description/>
  <dc:language>en-US</dc:language>
  <cp:lastModifiedBy>Senent Gimenez, Ana</cp:lastModifiedBy>
  <dcterms:modified xsi:type="dcterms:W3CDTF">2025-04-15T15:04:23Z</dcterms:modified>
  <cp:revision>9</cp:revision>
  <dc:subject/>
  <dc:title>PowerPoint Presentation</dc:title>
</cp:coreProperties>
</file>